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C3BA-CB23-49AE-86D9-27652F3D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B953-C546-4D38-8D4A-915AA66E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783E-180A-4017-8E5D-B7E23E10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1701-1FA4-406A-89B7-69A828A3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760F-3212-46E1-9B24-40E7AD2A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E545-C545-4D97-8605-D16F402C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8891-92A7-4BF4-A0C9-D50A6B30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6D99-076A-4EC2-B8F0-C803EACD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02BD-36D2-43EA-8C37-BABB0309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385E-2080-4CE2-98A0-EF704486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3FBA-6829-4970-81F4-F93D953D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7263-1FB1-41EE-A82D-8A8DAC46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2043-9AC9-430F-844A-A3CB08D0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29C9-A5F4-48DE-BFF0-D5618F5B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3541-5A8C-4E96-8FD9-15074CB8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9450-9149-4D51-829F-0B6387FA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DE3E-B229-43CD-921E-F3ED8508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0B4C-6328-4BC6-BE10-559ADFA4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ECE0-8763-46C7-8372-59C81E46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D4EC-2F79-40CB-B4F2-DECBA71C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22C8-368B-43C5-B4D6-F180B94A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41D3-3E33-4A27-B8AA-44F65636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DA18-6C5B-4712-AA86-A7F3D782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F70-A666-4507-8CD4-39056AF8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B90D-C4D4-4485-9558-C325E255BF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AF99-803F-437A-9D88-EC6C842A9F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752480" y="0"/>
            <a:ext cx="5588280" cy="6040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5400" y="6064920"/>
            <a:ext cx="5097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Чем заканчиваются времена московского государств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ак называется следующий отрезок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ка делает крутой поворот. С чьим именем это связано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838080"/>
            <a:ext cx="422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ang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академ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гер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мореплаватель,                        то плот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Он всеобъемлющей душ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На троне вечный был рабо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mg3"/>
          <p:cNvPicPr/>
          <p:nvPr/>
        </p:nvPicPr>
        <p:blipFill>
          <a:blip r:embed="rId1"/>
          <a:stretch/>
        </p:blipFill>
        <p:spPr>
          <a:xfrm>
            <a:off x="5257800" y="914400"/>
            <a:ext cx="33433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914400" y="152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ётр Пер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38840" cy="4494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60" y="6505200"/>
            <a:ext cx="39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ие преобразования задумал Петр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45440" cy="47196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1447920" y="304920"/>
            <a:ext cx="617364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а армия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rcRect l="0" t="2083" r="0" b="0"/>
          <a:stretch/>
        </p:blipFill>
        <p:spPr>
          <a:xfrm>
            <a:off x="914400" y="1905120"/>
            <a:ext cx="349740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rcRect l="0" t="2322" r="4190" b="2322"/>
          <a:stretch/>
        </p:blipFill>
        <p:spPr>
          <a:xfrm>
            <a:off x="4572000" y="2666880"/>
            <a:ext cx="419112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1692360" y="62064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ромышленност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324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вы думаете, могут ли преобразования обходиться легко для народа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85080" cy="451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1676520" y="380880"/>
            <a:ext cx="554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 флот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539640" y="228600"/>
            <a:ext cx="77043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сия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вратилась 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ьнейшее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сударство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5334120" y="3962520"/>
            <a:ext cx="2971800" cy="2219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19720" y="2285640"/>
            <a:ext cx="49528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Андреевский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 флаг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4191120"/>
            <a:ext cx="3675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rcRect l="7702" t="20522" r="7702" b="25653"/>
          <a:stretch/>
        </p:blipFill>
        <p:spPr>
          <a:xfrm>
            <a:off x="609480" y="1905120"/>
            <a:ext cx="335304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-228600" y="304920"/>
            <a:ext cx="49528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Российск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фла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3047760" cy="339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2533680" cy="281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6324480" y="3505320"/>
            <a:ext cx="2533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Академия наук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48002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Основана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725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 году по распоряжению Петра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I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.                                                                                      Она называлась Императорская академия наук и художеств</a:t>
            </a: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0" t="0" r="0" b="32828"/>
          <a:stretch/>
        </p:blipFill>
        <p:spPr>
          <a:xfrm>
            <a:off x="2057400" y="1752480"/>
            <a:ext cx="5181480" cy="25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2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